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D1F-9701-4B66-9B40-0748B07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618-FA5D-4D7F-B5C2-CA340BD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2EB-DD47-4ED3-8AE7-59C186B7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4A4-5A68-487C-96BF-1168EC05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F8A-E46C-49B0-B428-CCB1B05F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D23-D505-4295-83B6-EA72378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CE2-CB75-439C-9854-5CD426E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C48-DD6C-4AC9-A818-37E440F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A02-131A-436D-93CA-43761B9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48F-8804-4F08-B648-89ADE9B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A23-9F90-46B7-B0BF-91D9191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D45-DA52-4EB9-8EDF-17CDE53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F53A-F869-4291-BE8F-73E2F4831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y Gabe 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门开派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unting.jpg picture by partypooper13"/>
          <p:cNvPicPr/>
          <p:nvPr/>
        </p:nvPicPr>
        <p:blipFill>
          <a:blip r:embed="rId1"/>
          <a:stretch/>
        </p:blipFill>
        <p:spPr>
          <a:xfrm>
            <a:off x="2209680" y="19810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-99072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个老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chascreek.blogs.com/a_doodle_a_day/images/old_man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9128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-9907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喜欢在山上散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oldasianman.jpg old asian man picture by Pacoiscool"/>
          <p:cNvPicPr/>
          <p:nvPr/>
        </p:nvPicPr>
        <p:blipFill>
          <a:blip r:embed="rId1"/>
          <a:stretch/>
        </p:blipFill>
        <p:spPr>
          <a:xfrm>
            <a:off x="4572000" y="19810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zakopane-life.com/media/pics/tatra-mountains-zakopane.jpg"/>
          <p:cNvPicPr/>
          <p:nvPr/>
        </p:nvPicPr>
        <p:blipFill>
          <a:blip r:embed="rId2"/>
          <a:stretch/>
        </p:blipFill>
        <p:spPr>
          <a:xfrm>
            <a:off x="228600" y="24382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3"/>
          <a:stretch/>
        </p:blipFill>
        <p:spPr>
          <a:xfrm>
            <a:off x="-106668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天他看四个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5334120" y="22096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draw.joshmillard.com/img/what-is-he-looking-at.jpg"/>
          <p:cNvPicPr/>
          <p:nvPr/>
        </p:nvPicPr>
        <p:blipFill>
          <a:blip r:embed="rId2"/>
          <a:stretch/>
        </p:blipFill>
        <p:spPr>
          <a:xfrm>
            <a:off x="457200" y="2209680"/>
            <a:ext cx="389880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-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不认识他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earchengineconsultant.files.wordpress.com/2008/12/confuse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henry.mpls.k12.mn.us/sites/40ffb804-cceb-41db-92d5-ed0b7a6eb987/uploads/SelfMade2.jpg"/>
          <p:cNvPicPr/>
          <p:nvPr/>
        </p:nvPicPr>
        <p:blipFill>
          <a:blip r:embed="rId2"/>
          <a:stretch/>
        </p:blipFill>
        <p:spPr>
          <a:xfrm>
            <a:off x="4876920" y="198108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-14479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你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ghostofbenjaminholt.com/uploaded_images/Old%20Man-763063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8152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95280" y="167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什么都没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不喜欢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henry.mpls.k12.mn.us/sites/40ffb804-cceb-41db-92d5-ed0b7a6eb987/uploads/SelfMade2.jpg"/>
          <p:cNvPicPr/>
          <p:nvPr/>
        </p:nvPicPr>
        <p:blipFill>
          <a:blip r:embed="rId1"/>
          <a:stretch/>
        </p:blipFill>
        <p:spPr>
          <a:xfrm>
            <a:off x="3164040" y="2646360"/>
            <a:ext cx="3084480" cy="3803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老男人跑到他房子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acclesfield-harriers.co.uk/mh/photo/fraRelays2005/Old%20man%20of%20the%20hills.jpg"/>
          <p:cNvPicPr/>
          <p:nvPr/>
        </p:nvPicPr>
        <p:blipFill>
          <a:blip r:embed="rId1"/>
          <a:stretch/>
        </p:blipFill>
        <p:spPr>
          <a:xfrm>
            <a:off x="472428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eocities.com/carmelacolavecchio/mountain_houseJPG.jpg"/>
          <p:cNvPicPr/>
          <p:nvPr/>
        </p:nvPicPr>
        <p:blipFill>
          <a:blip r:embed="rId2"/>
          <a:stretch/>
        </p:blipFill>
        <p:spPr>
          <a:xfrm>
            <a:off x="304920" y="3429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-914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老男人有两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8.jpg"/>
          <p:cNvPicPr/>
          <p:nvPr/>
        </p:nvPicPr>
        <p:blipFill>
          <a:blip r:embed="rId1"/>
          <a:stretch/>
        </p:blipFill>
        <p:spPr>
          <a:xfrm>
            <a:off x="1600200" y="1828800"/>
            <a:ext cx="596916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-9144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8:15Z</dcterms:created>
  <dc:creator>itsuser</dc:creator>
  <dc:description/>
  <dc:language>en-US</dc:language>
  <cp:lastModifiedBy>itsuser</cp:lastModifiedBy>
  <dcterms:modified xsi:type="dcterms:W3CDTF">2009-04-09T16:13:40Z</dcterms:modified>
  <cp:revision>9</cp:revision>
  <dc:subject/>
  <dc:title>老男人  By Gabe Ward</dc:title>
</cp:coreProperties>
</file>